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060-3B96-4EE6-B5A2-13E57A6A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B18-4A43-4530-AFD2-9DDEFE7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207-6FE0-410A-8455-F966E76B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D05-C047-4662-ABF3-4A2F65D7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56D-C27D-4018-92F5-C853F899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4F64-F787-4030-8F1A-5D6AEFA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B05E-4516-47BD-9D6E-CFC7AA0F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1BA3-1343-4430-9F9E-7501B018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B079-C935-4392-A48C-8237F07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39B0-69C6-4E28-93B3-C203D5A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8553-EBE6-4684-9A57-4F37A4D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FEE-13A8-4A8C-A77E-20BAC4C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D0A5-B948-4052-A267-46F4A28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6B48-763C-4EDC-8EC1-BC770F19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1EAC-4DFD-4D45-AFD2-CAA201CE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2225-61D9-4B50-8C7A-F6ECE48B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2AFB-4F99-4B58-A71A-AF745E7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7CB5-3583-4BCE-B0EF-A5213758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91A7-369F-4C21-A56F-FECF0D5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D49A4-2C48-4009-9CA8-EC8D9AC1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2C79-171E-4F00-B280-3C8BC73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58C3-EC33-407B-BFCB-E4400258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265-5AB8-4F81-846F-FD48DE6D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D53D-B446-40E8-BC03-8000355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D582-0472-41BB-A00D-06B7D582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7338-2C99-4F24-8275-A9FDC6D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B68C-0FAF-4B33-ABC1-EC5A08DC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BADA-9954-4506-8C23-8E3496F6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9D2A-EE13-42B4-8E38-49FB0582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BA6E-E3EB-4C21-8B11-E349B62D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0447-4664-44F5-9D0E-9BE97F44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ABF7-5F81-4BB2-9D99-8155DB1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8C32-AC33-4DFE-B782-54D2159D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289-CBCC-49EB-9183-F164796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EBAF-7BD6-44CD-8B4A-53D54C69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A7C5-BA48-403E-A9D0-3021910F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8729-D3B7-438E-872F-D724F21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8F18F-611A-4C5B-B431-CA3159DE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8A41-E6B5-4C40-888C-9630E29C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E234-255C-45A6-8C58-2084A55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75237-986A-44D6-AAE8-8B0A0B3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DC8B-97E4-4AB7-ABC6-76F39E54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981B-9AFC-42F0-BD36-E08F037F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6F1-66D5-4809-9DBA-8455EB09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B7E-6662-4D64-A922-3A24224F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F9C-04AA-4CD6-8B0B-C7BBBA6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139-2421-4B63-9ADB-9C91829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624-32E8-49AB-835E-AC487FE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76D3-1634-403E-A444-3C725894064F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A32F-E9B6-4D86-A378-73899EA1AFC4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4644-750A-476B-B661-AEAD061A78C8}" type="slidenum">
              <a:rPr b="0" lang="fr-BE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D0EF-E014-44F0-80F4-5C82728E5551}" type="slidenum">
              <a:rPr b="0" lang="fr-BE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Droit au bail - terminolog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as de porte = somme d’argent, variable, versée par le locataire au propriétaire dans un bail commercial, ou par le cessionnaire au locataire précéd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hamp d’application du bail commerci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égime juridique du bail commerci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ail en cours d’exécution (sous location, cess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enouvellement  (qui en bénéficie? 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Loy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Espace réservé du contenu 3" descr=""/>
          <p:cNvPicPr/>
          <p:nvPr/>
        </p:nvPicPr>
        <p:blipFill>
          <a:blip r:embed="rId1"/>
          <a:stretch/>
        </p:blipFill>
        <p:spPr>
          <a:xfrm>
            <a:off x="291960" y="1925640"/>
            <a:ext cx="84139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Loyer (droit comparé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Espace réservé du contenu 3" descr=""/>
          <p:cNvPicPr/>
          <p:nvPr/>
        </p:nvPicPr>
        <p:blipFill>
          <a:blip r:embed="rId1"/>
          <a:stretch/>
        </p:blipFill>
        <p:spPr>
          <a:xfrm>
            <a:off x="433440" y="1901880"/>
            <a:ext cx="8277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Bail en cours d’exéc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Sous loc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Cess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Exercice d’activités complémentaire, connexes ou différent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fr-FR" sz="4900" spc="-1" strike="noStrike">
                <a:solidFill>
                  <a:srgbClr val="04617b"/>
                </a:solidFill>
                <a:latin typeface="Calibri"/>
              </a:rPr>
              <a:t>Sous location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Espace réservé du contenu 3" descr=""/>
          <p:cNvPicPr/>
          <p:nvPr/>
        </p:nvPicPr>
        <p:blipFill>
          <a:blip r:embed="rId1"/>
          <a:stretch/>
        </p:blipFill>
        <p:spPr>
          <a:xfrm>
            <a:off x="390600" y="1914480"/>
            <a:ext cx="83152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es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Espace réservé du contenu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4617b"/>
                </a:solidFill>
                <a:latin typeface="Calibri"/>
              </a:rPr>
              <a:t>Exercice d’activités complémentaires, connexes ou différen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Espace réservé du contenu 3" descr=""/>
          <p:cNvPicPr/>
          <p:nvPr/>
        </p:nvPicPr>
        <p:blipFill>
          <a:blip r:embed="rId1"/>
          <a:stretch/>
        </p:blipFill>
        <p:spPr>
          <a:xfrm>
            <a:off x="433440" y="1901880"/>
            <a:ext cx="8277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04617b"/>
                </a:solidFill>
                <a:latin typeface="Calibri"/>
              </a:rPr>
              <a:t>Renouvellement du bail commerci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Qui en bénéficie?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Indemnité de résil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Exonération de l’indemnit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Cas du renouvelle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Princi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Espace réservé du contenu 3" descr=""/>
          <p:cNvPicPr/>
          <p:nvPr/>
        </p:nvPicPr>
        <p:blipFill>
          <a:blip r:embed="rId1"/>
          <a:stretch/>
        </p:blipFill>
        <p:spPr>
          <a:xfrm>
            <a:off x="438120" y="1901880"/>
            <a:ext cx="8272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Exonération de l’indemnit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oyers impayés (au moins 3 moi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ransformation du local sans autorisation du baille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hangement d’activité du fonds de commerce sans consentement du propriét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isque de ruine du local (à moins de prouver la responsabilité du bailleu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isque de ruine par fait du locataire, force maje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erte de la clientèle du FDC  suite à la fermeture du local pour 2 années au mo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as du renouvell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molition et reconstru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(Indemnité provisoire + frais d’attente/  obligation d’aviser le locataire de la date de remise à nouveau du local à sa dispos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ocaux menaçant rui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(Droit à la reprise du local ou à l’indemnité d’éviction s’il fait connaître sa volonté  durant la procédu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xtension ou surélévation du lo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(durée d’éviction ne peut dépasser une anné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hamp d’appl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oi n° 49-16 relative aux baux des immeubles ou locaux loués à usage commercial = art. 1</a:t>
            </a:r>
            <a:r>
              <a:rPr b="0" lang="fr-FR" sz="2600" spc="-1" strike="noStrike" baseline="30000">
                <a:solidFill>
                  <a:srgbClr val="000000"/>
                </a:solidFill>
                <a:latin typeface="Constantia"/>
              </a:rPr>
              <a:t>er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xploitation d’un FD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aux d’immeubles ou locaux dans lesquels des établissements d’enseignement privé exercent leur activ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. Dans lesquels les cliniques et établissements similaires exercent leur activ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. Dans lesquels est exercée une activité pharmaceutique, laboratoires et cabinets radiolog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Droit de priorit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roit accordé à un locataire dans le cas de pluralité de locataires dans un même immeuble ou bien immobili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. 14 loi 46-1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ouble flèche verticale 3"/>
          <p:cNvSpPr/>
          <p:nvPr/>
        </p:nvSpPr>
        <p:spPr>
          <a:xfrm>
            <a:off x="4429080" y="3857760"/>
            <a:ext cx="484200" cy="1215720"/>
          </a:xfrm>
          <a:prstGeom prst="upDownArrow">
            <a:avLst>
              <a:gd name="adj1" fmla="val 50000"/>
              <a:gd name="adj2" fmla="val 5003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Exclusion du bail commer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aux d’immeubles ou locaux relevant du domaine public de l’Et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aux d’immeubles ou locaux loués à usage commercial mais constitués en Hab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aux d’immeubles ou locaux situés dans les centres commercia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éfinition légale du Centre commercial / Ges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Flèche vers le bas 3"/>
          <p:cNvSpPr/>
          <p:nvPr/>
        </p:nvSpPr>
        <p:spPr>
          <a:xfrm>
            <a:off x="4286160" y="4286160"/>
            <a:ext cx="484200" cy="835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entre commercial/ Ges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Espace réservé du contenu 3" descr=""/>
          <p:cNvPicPr/>
          <p:nvPr/>
        </p:nvPicPr>
        <p:blipFill>
          <a:blip r:embed="rId1"/>
          <a:stretch/>
        </p:blipFill>
        <p:spPr>
          <a:xfrm>
            <a:off x="438120" y="1901880"/>
            <a:ext cx="8272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Exemple: CC Morocco M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Investisseurs du projet: Nesk Investment (filiale de la FMN Al Jedaie) + groupe Akwa + Aks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Offres: Commerces (Marjane, Fnac, galeries Lafayet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oisirs (Parc Adventureland, aquarium, une patinoi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50 boutiques abritant 600 marques (souvent internation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as de FDC pour les commerçants de ces boutiq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lèche vers le bas 3"/>
          <p:cNvSpPr/>
          <p:nvPr/>
        </p:nvSpPr>
        <p:spPr>
          <a:xfrm>
            <a:off x="4357800" y="3786120"/>
            <a:ext cx="484200" cy="478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lèche vers le bas 4"/>
          <p:cNvSpPr/>
          <p:nvPr/>
        </p:nvSpPr>
        <p:spPr>
          <a:xfrm>
            <a:off x="4357800" y="514368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fr-FR" sz="3200" spc="-1" strike="noStrike">
                <a:solidFill>
                  <a:srgbClr val="04617b"/>
                </a:solidFill>
                <a:latin typeface="Calibri"/>
              </a:rPr>
              <a:t>Régime juridique du bail commercial 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Form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Duré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nstantia"/>
              </a:rPr>
              <a:t>Loy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ntrat établi entre un bailleur (propriétaire du bien immobilier) et un locataire (preneur) moyennant un loyer (contrepartie financiè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especter les conditions communes de formation du contrat (Consentement éclairé et non vicié, objet licite, cause licite, capacité commercia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i paiement des droits de la propriété commerciale (pas de porte) = obligation de sa m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Égal 3"/>
          <p:cNvSpPr/>
          <p:nvPr/>
        </p:nvSpPr>
        <p:spPr>
          <a:xfrm>
            <a:off x="4492800" y="3176640"/>
            <a:ext cx="914400" cy="571320"/>
          </a:xfrm>
          <a:custGeom>
            <a:avLst/>
            <a:gdLst>
              <a:gd name="textAreaLeft" fmla="*/ 120960 w 914400"/>
              <a:gd name="textAreaRight" fmla="*/ 793440 w 914400"/>
              <a:gd name="textAreaTop" fmla="*/ 117720 h 571320"/>
              <a:gd name="textAreaBottom" fmla="*/ 453600 h 571320"/>
            </a:gdLst>
            <a:ahLst/>
            <a:rect l="textAreaLeft" t="textAreaTop" r="textAreaRight" b="textAreaBottom"/>
            <a:pathLst>
              <a:path w="914400" h="571504">
                <a:moveTo>
                  <a:pt x="121204" y="117730"/>
                </a:moveTo>
                <a:lnTo>
                  <a:pt x="793196" y="117730"/>
                </a:lnTo>
                <a:lnTo>
                  <a:pt x="793196" y="252148"/>
                </a:lnTo>
                <a:lnTo>
                  <a:pt x="121204" y="252148"/>
                </a:lnTo>
                <a:close/>
                <a:moveTo>
                  <a:pt x="121204" y="319356"/>
                </a:moveTo>
                <a:lnTo>
                  <a:pt x="793196" y="319356"/>
                </a:lnTo>
                <a:lnTo>
                  <a:pt x="793196" y="453774"/>
                </a:lnTo>
                <a:lnTo>
                  <a:pt x="121204" y="453774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us 4"/>
          <p:cNvSpPr/>
          <p:nvPr/>
        </p:nvSpPr>
        <p:spPr>
          <a:xfrm>
            <a:off x="4357800" y="4857840"/>
            <a:ext cx="914400" cy="714240"/>
          </a:xfrm>
          <a:custGeom>
            <a:avLst/>
            <a:gdLst>
              <a:gd name="textAreaLeft" fmla="*/ 120960 w 914400"/>
              <a:gd name="textAreaRight" fmla="*/ 793440 w 914400"/>
              <a:gd name="textAreaTop" fmla="*/ 273240 h 714240"/>
              <a:gd name="textAreaBottom" fmla="*/ 441000 h 714240"/>
            </a:gdLst>
            <a:ahLst/>
            <a:rect l="textAreaLeft" t="textAreaTop" r="textAreaRight" b="textAreaBottom"/>
            <a:pathLst>
              <a:path w="914400" h="714380">
                <a:moveTo>
                  <a:pt x="121204" y="273179"/>
                </a:moveTo>
                <a:lnTo>
                  <a:pt x="373189" y="273179"/>
                </a:lnTo>
                <a:lnTo>
                  <a:pt x="373189" y="94691"/>
                </a:lnTo>
                <a:lnTo>
                  <a:pt x="541211" y="94691"/>
                </a:lnTo>
                <a:lnTo>
                  <a:pt x="541211" y="273179"/>
                </a:lnTo>
                <a:lnTo>
                  <a:pt x="793196" y="273179"/>
                </a:lnTo>
                <a:lnTo>
                  <a:pt x="793196" y="441201"/>
                </a:lnTo>
                <a:lnTo>
                  <a:pt x="541211" y="441201"/>
                </a:lnTo>
                <a:lnTo>
                  <a:pt x="541211" y="619689"/>
                </a:lnTo>
                <a:lnTo>
                  <a:pt x="373189" y="619689"/>
                </a:lnTo>
                <a:lnTo>
                  <a:pt x="373189" y="441201"/>
                </a:lnTo>
                <a:lnTo>
                  <a:pt x="121204" y="441201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Fo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Espace réservé du contenu 3" descr=""/>
          <p:cNvPicPr/>
          <p:nvPr/>
        </p:nvPicPr>
        <p:blipFill>
          <a:blip r:embed="rId1"/>
          <a:stretch/>
        </p:blipFill>
        <p:spPr>
          <a:xfrm>
            <a:off x="317520" y="1925640"/>
            <a:ext cx="8388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4617b"/>
                </a:solidFill>
                <a:latin typeface="Calibri"/>
              </a:rPr>
              <a:t>Duré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Espace réservé du contenu 3" descr=""/>
          <p:cNvPicPr/>
          <p:nvPr/>
        </p:nvPicPr>
        <p:blipFill>
          <a:blip r:embed="rId1"/>
          <a:stretch/>
        </p:blipFill>
        <p:spPr>
          <a:xfrm>
            <a:off x="317520" y="1925640"/>
            <a:ext cx="8388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23:13:20Z</dcterms:created>
  <dc:creator>SAMSUNG</dc:creator>
  <dc:description/>
  <dc:language>en-US</dc:language>
  <cp:lastModifiedBy>SPIRIT LOGISTICS</cp:lastModifiedBy>
  <dcterms:modified xsi:type="dcterms:W3CDTF">2018-03-07T11:59:15Z</dcterms:modified>
  <cp:revision>17</cp:revision>
  <dc:subject/>
  <dc:title>Droit au bail - terminologie</dc:title>
</cp:coreProperties>
</file>